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7467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3880" y="4045320"/>
            <a:ext cx="7467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0680" y="1219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3880" y="4045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50680" y="4045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240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48920" y="1219320"/>
            <a:ext cx="240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73960" y="1219320"/>
            <a:ext cx="240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3880" y="4045320"/>
            <a:ext cx="240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048920" y="4045320"/>
            <a:ext cx="240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73960" y="4045320"/>
            <a:ext cx="240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3880" y="1219320"/>
            <a:ext cx="746784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7467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3644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50680" y="1219320"/>
            <a:ext cx="3644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50680" y="1219320"/>
            <a:ext cx="3644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3880" y="4045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3644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0680" y="1219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50680" y="4045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0680" y="1219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880" y="4045320"/>
            <a:ext cx="7467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Click to edit the title text format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19320"/>
            <a:ext cx="7467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334800">
              <a:spcBef>
                <a:spcPts val="700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432080" indent="-289080">
              <a:spcBef>
                <a:spcPts val="700"/>
              </a:spcBef>
              <a:buClr>
                <a:srgbClr val="b6b6b6"/>
              </a:buClr>
              <a:buSzPct val="14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7748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11788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11788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11788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895480" y="5762520"/>
            <a:ext cx="4800600" cy="703800"/>
          </a:xfrm>
          <a:prstGeom prst="rect">
            <a:avLst/>
          </a:prstGeom>
          <a:noFill/>
          <a:ln w="12600">
            <a:solidFill>
              <a:srgbClr val="ac7300"/>
            </a:solidFill>
            <a:miter/>
          </a:ln>
          <a:effectLst>
            <a:outerShdw dist="17819" dir="2700000" blurRad="0" rotWithShape="0">
              <a:srgbClr val="664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Ms. Susan M. Pojer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Horace Greeley HS    Chappaqua, 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752480" y="533520"/>
            <a:ext cx="7010640" cy="475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6600"/>
                </a:solidFill>
                <a:latin typeface="AuntJudy"/>
              </a:rPr>
              <a:t>From Mercantilism to </a:t>
            </a:r>
            <a:br>
              <a:rPr sz="5400"/>
            </a:br>
            <a:r>
              <a:rPr b="0" lang="en-US" sz="5400" spc="-1" strike="noStrike">
                <a:solidFill>
                  <a:srgbClr val="996600"/>
                </a:solidFill>
                <a:latin typeface="AuntJudy"/>
              </a:rPr>
              <a:t>Adam Smith:</a:t>
            </a:r>
            <a:br>
              <a:rPr sz="5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3400" spc="-1" strike="noStrike">
                <a:solidFill>
                  <a:srgbClr val="996600"/>
                </a:solidFill>
                <a:latin typeface="AuntJudy"/>
              </a:rPr>
              <a:t>The Evolution</a:t>
            </a:r>
            <a:br>
              <a:rPr sz="3400"/>
            </a:br>
            <a:r>
              <a:rPr b="0" lang="en-US" sz="3400" spc="-1" strike="noStrike">
                <a:solidFill>
                  <a:srgbClr val="996600"/>
                </a:solidFill>
                <a:latin typeface="AuntJudy"/>
              </a:rPr>
              <a:t>of the</a:t>
            </a:r>
            <a:br>
              <a:rPr sz="3400"/>
            </a:br>
            <a:r>
              <a:rPr b="0" lang="en-US" sz="3400" spc="-1" strike="noStrike">
                <a:solidFill>
                  <a:srgbClr val="996600"/>
                </a:solidFill>
                <a:latin typeface="AuntJudy"/>
              </a:rPr>
              <a:t>Modern Capitalist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52480" y="1523880"/>
            <a:ext cx="7010640" cy="3412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untJudy"/>
              </a:rPr>
              <a:t>The</a:t>
            </a:r>
            <a:br>
              <a:rPr sz="8000"/>
            </a:br>
            <a:r>
              <a:rPr b="0" lang="en-US" sz="8000" spc="-1" strike="noStrike">
                <a:solidFill>
                  <a:srgbClr val="996600"/>
                </a:solidFill>
                <a:latin typeface="AuntJudy"/>
              </a:rPr>
              <a:t>Physiocra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CheshireBroad"/>
              </a:rPr>
              <a:t>(</a:t>
            </a: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The </a:t>
            </a:r>
            <a:r>
              <a:rPr b="0" lang="en-US" sz="3800" spc="-1" strike="noStrike">
                <a:solidFill>
                  <a:srgbClr val="996600"/>
                </a:solidFill>
                <a:latin typeface="CheshireBroad"/>
              </a:rPr>
              <a:t>“</a:t>
            </a: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Government of Nature</a:t>
            </a:r>
            <a:r>
              <a:rPr b="0" lang="en-US" sz="3800" spc="-1" strike="noStrike">
                <a:solidFill>
                  <a:srgbClr val="996600"/>
                </a:solidFill>
                <a:latin typeface="CheshireBroad"/>
              </a:rPr>
              <a:t>”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Francois Quesnay  </a:t>
            </a:r>
            <a:r>
              <a:rPr b="0" lang="en-US" sz="3400" spc="-1" strike="noStrike">
                <a:solidFill>
                  <a:srgbClr val="996600"/>
                </a:solidFill>
                <a:latin typeface="CheshireBroad"/>
              </a:rPr>
              <a:t>(1694-1774)</a:t>
            </a:r>
            <a:endParaRPr b="0" lang="en-US" sz="34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4120" y="1219320"/>
            <a:ext cx="35049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urgeon who turned to medicine because of failing eyesigh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 began publishing economics treatises at the age of 6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single document or book summarizes his economic syste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 was concerned about the state of the French economy, especially of French agricultu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654200" y="1676520"/>
            <a:ext cx="3527280" cy="3962160"/>
          </a:xfrm>
          <a:prstGeom prst="rect">
            <a:avLst/>
          </a:prstGeom>
          <a:ln w="9360">
            <a:solidFill>
              <a:srgbClr val="ac7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Quesnay</a:t>
            </a:r>
            <a:r>
              <a:rPr b="0" lang="en-US" sz="3800" spc="-1" strike="noStrike">
                <a:solidFill>
                  <a:srgbClr val="996600"/>
                </a:solidFill>
                <a:latin typeface="CheshireBroad"/>
              </a:rPr>
              <a:t>’</a:t>
            </a: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s Economic Theories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066320"/>
            <a:ext cx="3962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ableau Économiq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1759]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96040" indent="-334440"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A reaction against the extreme mercantilist policies of Colbert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34440" indent="-334440"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economic class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96040" indent="-334440"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Proprietary class”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landowners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896040" indent="-334440"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Productive class”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agricultural laborers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896040" indent="-334440"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Sterile class”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artisans &amp; merchants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34440" indent="-334440"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ductive work was the source of national weal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0" r="0" b="12189"/>
          <a:stretch/>
        </p:blipFill>
        <p:spPr>
          <a:xfrm>
            <a:off x="5562720" y="1219320"/>
            <a:ext cx="3305160" cy="4876560"/>
          </a:xfrm>
          <a:prstGeom prst="rect">
            <a:avLst/>
          </a:prstGeom>
          <a:ln w="9360">
            <a:solidFill>
              <a:srgbClr val="ac7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Quesnay</a:t>
            </a:r>
            <a:r>
              <a:rPr b="0" lang="en-US" sz="3800" spc="-1" strike="noStrike">
                <a:solidFill>
                  <a:srgbClr val="996600"/>
                </a:solidFill>
                <a:latin typeface="CheshireBroad"/>
              </a:rPr>
              <a:t>’</a:t>
            </a: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s Economic Theories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76160" y="914040"/>
            <a:ext cx="7086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fore, the wealth of the nation was derived from agricultu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341280"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Agriculture was the productive sector of an economy.</a:t>
            </a: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x only the landowning cla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200400" y="2590920"/>
            <a:ext cx="4572000" cy="3396960"/>
          </a:xfrm>
          <a:prstGeom prst="rect">
            <a:avLst/>
          </a:prstGeom>
          <a:ln w="9360">
            <a:solidFill>
              <a:srgbClr val="ac7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52480" y="2489040"/>
            <a:ext cx="7010640" cy="1312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untJudy"/>
              </a:rPr>
              <a:t>Capitalis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Adam Smith  </a:t>
            </a:r>
            <a:r>
              <a:rPr b="0" lang="en-US" sz="3400" spc="-1" strike="noStrike">
                <a:solidFill>
                  <a:srgbClr val="996600"/>
                </a:solidFill>
                <a:latin typeface="CheshireBroad"/>
              </a:rPr>
              <a:t>(1723-1790)</a:t>
            </a:r>
            <a:endParaRPr b="0" lang="en-US" sz="34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876920" y="1066320"/>
            <a:ext cx="40384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ointed to the chair of logic in 1751 at the University of Glasgow, Scotlan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1752 he transferred to the chair of philosoph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n his travels to France, he was influenced by the writings of the physiocrat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776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The Theory of Moral Sentiments and an Inquiry Into the Nature of Causes of the Wealth of Nations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as publishe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334800">
              <a:lnSpc>
                <a:spcPct val="90000"/>
              </a:lnSpc>
              <a:spcBef>
                <a:spcPts val="499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vehement attack of the mercantilist sys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23880" y="1427040"/>
            <a:ext cx="3262320" cy="4592880"/>
          </a:xfrm>
          <a:prstGeom prst="rect">
            <a:avLst/>
          </a:prstGeom>
          <a:ln w="9360">
            <a:solidFill>
              <a:srgbClr val="ac7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The Wealth of Nations  </a:t>
            </a:r>
            <a:r>
              <a:rPr b="0" lang="en-US" sz="3400" spc="-1" strike="noStrike">
                <a:solidFill>
                  <a:srgbClr val="996600"/>
                </a:solidFill>
                <a:latin typeface="CheshireBroad"/>
              </a:rPr>
              <a:t>(1776)</a:t>
            </a:r>
            <a:endParaRPr b="0" lang="en-US" sz="3400" spc="-1" strike="noStrike">
              <a:solidFill>
                <a:srgbClr val="996600"/>
              </a:solidFill>
              <a:latin typeface="AuntJudy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82720" y="1447920"/>
            <a:ext cx="3038400" cy="4762440"/>
          </a:xfrm>
          <a:prstGeom prst="rect">
            <a:avLst/>
          </a:prstGeom>
          <a:ln w="9360">
            <a:solidFill>
              <a:srgbClr val="ac73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211720" y="1447920"/>
            <a:ext cx="3551400" cy="4800600"/>
          </a:xfrm>
          <a:prstGeom prst="rect">
            <a:avLst/>
          </a:prstGeom>
          <a:ln w="9360">
            <a:solidFill>
              <a:srgbClr val="b97b3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6960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6600"/>
                </a:solidFill>
                <a:latin typeface="AuntJudy"/>
              </a:rPr>
              <a:t>Adam Smith</a:t>
            </a:r>
            <a:r>
              <a:rPr b="0" lang="en-US" sz="3400" spc="-1" strike="noStrike">
                <a:solidFill>
                  <a:srgbClr val="996600"/>
                </a:solidFill>
                <a:latin typeface="CheshireBroad"/>
              </a:rPr>
              <a:t>’</a:t>
            </a:r>
            <a:r>
              <a:rPr b="0" lang="en-US" sz="3400" spc="-1" strike="noStrike">
                <a:solidFill>
                  <a:srgbClr val="996600"/>
                </a:solidFill>
                <a:latin typeface="AuntJudy"/>
              </a:rPr>
              <a:t>s Attack on Mercantilism</a:t>
            </a:r>
            <a:endParaRPr b="0" lang="en-US" sz="34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52120" y="1523520"/>
            <a:ext cx="7162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e was making a political argument, NOT an economic one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334800">
              <a:lnSpc>
                <a:spcPct val="90000"/>
              </a:lnSpc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Part of the argument was for new economic policy, but.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334800">
              <a:lnSpc>
                <a:spcPct val="90000"/>
              </a:lnSpc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An essential part of the argument was for new social and political arrangements.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 argued that the basic unit for social analysis should be th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ation, not the 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 was against the belief that trade was a zero-sum g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334800">
              <a:lnSpc>
                <a:spcPct val="90000"/>
              </a:lnSpc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It was a positive-sum game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334800">
              <a:lnSpc>
                <a:spcPct val="90000"/>
              </a:lnSpc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Both nations gained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696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untJudy"/>
              </a:rPr>
              <a:t>Basic Capitalist Principles</a:t>
            </a:r>
            <a:endParaRPr b="0" lang="en-US" sz="40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28440" y="1371240"/>
            <a:ext cx="7010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3200" indent="-403200"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s and services are produced for profitable exchang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labor power is a commodity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ABOR IS THE SOURCE OF VALU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3962520"/>
            <a:ext cx="1752480" cy="2057400"/>
          </a:xfrm>
          <a:prstGeom prst="ellipse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Busines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962520"/>
            <a:ext cx="1752480" cy="2057400"/>
          </a:xfrm>
          <a:prstGeom prst="ellipse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Househol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403848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352680" y="5943600"/>
            <a:ext cx="3810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657600" y="4419720"/>
            <a:ext cx="312408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5562720"/>
            <a:ext cx="312408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3733920"/>
            <a:ext cx="198108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181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Goods &amp; Servi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5897520"/>
            <a:ext cx="266724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181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Labor &amp; Invest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4373640"/>
            <a:ext cx="221004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181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mic Sans MS"/>
              </a:rPr>
              <a:t>Consumer Spend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5257800"/>
            <a:ext cx="221004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181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mic Sans MS"/>
              </a:rPr>
              <a:t>Wag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828800" y="1218960"/>
            <a:ext cx="693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Clr>
                <a:srgbClr val="808080"/>
              </a:buClr>
              <a:buSzPct val="8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600" spc="-1" strike="noStrike">
                <a:solidFill>
                  <a:srgbClr val="ff4519"/>
                </a:solidFill>
                <a:latin typeface="Comic Sans MS"/>
              </a:rPr>
              <a:t>“Invisible Hand”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of the marke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082520" indent="-399960">
              <a:spcBef>
                <a:spcPts val="575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</a:rPr>
              <a:t>Problem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How do we survive in a world where we must depend on many others, but where humans are by nature self-interested individuals??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1082520" indent="-399960"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</a:rPr>
              <a:t>Solution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the free market, while appearing chaotic and unrestrained, is actually guided to produce the right amount and variety of goods by a so-called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“invisible hand.”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1082520" indent="-399960"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Therefore, the basic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market mechanism is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self-regulating!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243480" y="4419720"/>
            <a:ext cx="1909800" cy="2071440"/>
          </a:xfrm>
          <a:prstGeom prst="rect">
            <a:avLst/>
          </a:prstGeom>
          <a:ln w="9360">
            <a:solidFill>
              <a:srgbClr val="b97b3d"/>
            </a:solidFill>
            <a:miter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696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Basic Capitalist Principles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52480" y="2489040"/>
            <a:ext cx="7010640" cy="1312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untJudy"/>
              </a:rPr>
              <a:t>Mercantilis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828440" y="11426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Clr>
                <a:srgbClr val="808080"/>
              </a:buClr>
              <a:buSzPct val="8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dividuals seeking success are driven by self-interest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ff4519"/>
                </a:solidFill>
                <a:latin typeface="Comic Sans MS"/>
              </a:rPr>
              <a:t>Profit Motiv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49"/>
              </a:spcBef>
              <a:buClr>
                <a:srgbClr val="808080"/>
              </a:buClr>
              <a:buSzPct val="8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600" spc="-1" strike="noStrike">
                <a:solidFill>
                  <a:srgbClr val="ff4519"/>
                </a:solidFill>
                <a:latin typeface="Comic Sans MS"/>
              </a:rPr>
              <a:t>Law of Supply and Deman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082520" indent="-399960"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Individuals who are free to pursue their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self-interest will produce goods and services that others want, at prices others will b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willing to pay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Basic Capitalist Principles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600360" y="3608280"/>
            <a:ext cx="310536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696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Basic Capitalist Principles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480" y="1295280"/>
            <a:ext cx="70106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24"/>
              </a:spcBef>
              <a:buClr>
                <a:srgbClr val="808080"/>
              </a:buClr>
              <a:buSzPct val="85000"/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4519"/>
                </a:solidFill>
                <a:latin typeface="Comic Sans MS"/>
              </a:rPr>
              <a:t>Law of Competition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1144440" indent="-399960">
              <a:spcBef>
                <a:spcPts val="550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competitive market system compels producers to be increasingly efficient, and to respond to the desires of consumer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24"/>
              </a:spcBef>
              <a:buClr>
                <a:srgbClr val="808080"/>
              </a:buClr>
              <a:buSzPct val="85000"/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 social division of labor will maximize the satisfaction of individual wants and needs, given scarce resources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24"/>
              </a:spcBef>
              <a:buClr>
                <a:srgbClr val="808080"/>
              </a:buClr>
              <a:buSzPct val="85000"/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Government should interfere minimally with the free and efficient workings of the market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1144440" indent="-399960">
              <a:spcBef>
                <a:spcPts val="550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4519"/>
                </a:solidFill>
                <a:latin typeface="Comic Sans MS"/>
              </a:rPr>
              <a:t>Laissez fair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[“Leave things alone.”]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contrast="18000"/>
          </a:blip>
          <a:srcRect l="0" t="0" r="0" b="13337"/>
          <a:stretch/>
        </p:blipFill>
        <p:spPr>
          <a:xfrm>
            <a:off x="3505320" y="1295280"/>
            <a:ext cx="3429000" cy="2971800"/>
          </a:xfrm>
          <a:prstGeom prst="rect">
            <a:avLst/>
          </a:prstGeom>
          <a:ln w="9360">
            <a:solidFill>
              <a:srgbClr val="b97b3d"/>
            </a:solidFill>
            <a:miter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4952880"/>
            <a:ext cx="69343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There, there it is again—the invisible hand of the marketplace giving us the finger.</a:t>
            </a:r>
            <a:endParaRPr b="0" lang="en-US" sz="2600" spc="-1" strike="noStrike">
              <a:solidFill>
                <a:srgbClr val="996600"/>
              </a:solidFill>
              <a:latin typeface="AuntJu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AuntJudy"/>
              </a:rPr>
              <a:t>Characteristics of Mercantilism</a:t>
            </a:r>
            <a:endParaRPr b="0" lang="en-US" sz="36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3880" y="990360"/>
            <a:ext cx="7391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b4b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4b4b"/>
                </a:solidFill>
                <a:latin typeface="Comic Sans MS"/>
              </a:rPr>
              <a:t>Bullionism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eco. health of a nation could be measured by the amount of precious metal [gold or silver] which it possess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76320" indent="-344520">
              <a:lnSpc>
                <a:spcPct val="90000"/>
              </a:lnSpc>
              <a:spcBef>
                <a:spcPts val="550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ard’ money was the source of prosperity, prestige, and strength for a nation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76320" indent="-344520">
              <a:lnSpc>
                <a:spcPct val="90000"/>
              </a:lnSpc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ullionism dictated a </a:t>
            </a:r>
            <a:r>
              <a:rPr b="0" lang="en-US" sz="2200" spc="-1" strike="noStrike">
                <a:solidFill>
                  <a:srgbClr val="ff4b4b"/>
                </a:solidFill>
                <a:latin typeface="Comic Sans MS"/>
              </a:rPr>
              <a:t>“favorable balance of trade.”</a:t>
            </a:r>
            <a:r>
              <a:rPr b="0" lang="en-US" sz="2100" spc="-1" strike="noStrike">
                <a:solidFill>
                  <a:srgbClr val="ff4b4b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487520" indent="-265320">
              <a:lnSpc>
                <a:spcPct val="90000"/>
              </a:lnSpc>
              <a:spcBef>
                <a:spcPts val="524"/>
              </a:spcBef>
              <a:buClr>
                <a:srgbClr val="b6b6b6"/>
              </a:buClr>
              <a:buSzPct val="14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Export more than you import [a trade surplus]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3" marL="2136600" indent="-342720">
              <a:lnSpc>
                <a:spcPct val="90000"/>
              </a:lnSpc>
              <a:spcBef>
                <a:spcPts val="476"/>
              </a:spcBef>
              <a:buClr>
                <a:srgbClr val="996600"/>
              </a:buClr>
              <a:buSzPct val="9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High tariffs on imported manufactured good.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3" marL="2136600" indent="-342720">
              <a:lnSpc>
                <a:spcPct val="90000"/>
              </a:lnSpc>
              <a:spcBef>
                <a:spcPts val="476"/>
              </a:spcBef>
              <a:buClr>
                <a:srgbClr val="996600"/>
              </a:buClr>
              <a:buSzPct val="9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Low tariffs on imported raw materials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ation must try to achieve economic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f-sufficienc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76320" indent="-344520">
              <a:lnSpc>
                <a:spcPct val="90000"/>
              </a:lnSpc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Those founding new industries should be rewarded by the state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AuntJudy"/>
              </a:rPr>
              <a:t>Characteristics of Mercantilism</a:t>
            </a:r>
            <a:endParaRPr b="0" lang="en-US" sz="36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00200" y="106668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08080"/>
              </a:buClr>
              <a:buSzPct val="8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iving agriculture should be carefully encourag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93760" indent="-341280">
              <a:spcBef>
                <a:spcPts val="6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Less of need to import foods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1193760" indent="-341280">
              <a:spcBef>
                <a:spcPts val="6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rosperous farmers could provide a base for taxation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808080"/>
              </a:buClr>
              <a:buSzPct val="8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a power was necessary to control foreign marke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93760" indent="-341280">
              <a:spcBef>
                <a:spcPts val="6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Less need to use the ships of other nations to carry your trade goods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1193760" indent="-341280">
              <a:spcBef>
                <a:spcPts val="6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our own fleet adds to the power and prestige of the nation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808080"/>
              </a:buClr>
              <a:buSzPct val="85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ose internal taxes of all kin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AuntJudy"/>
              </a:rPr>
              <a:t>Characteristics of Mercantilism</a:t>
            </a:r>
            <a:endParaRPr b="0" lang="en-US" sz="36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39152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08080"/>
              </a:buClr>
              <a:buSzPct val="85000"/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olonies would provide captive markets for manufactured goods &amp; sources of raw materials.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75"/>
              </a:spcBef>
              <a:buClr>
                <a:srgbClr val="808080"/>
              </a:buClr>
              <a:buSzPct val="85000"/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rade is a </a:t>
            </a:r>
            <a:r>
              <a:rPr b="0" lang="en-US" sz="2700" spc="-1" strike="noStrike">
                <a:solidFill>
                  <a:srgbClr val="ff4519"/>
                </a:solidFill>
                <a:latin typeface="Comic Sans MS"/>
              </a:rPr>
              <a:t>“zero-sum” game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lvl="1" marL="1193760" indent="-341280">
              <a:spcBef>
                <a:spcPts val="575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A nation can gain in international trade only at the expense of other nations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2257560"/>
            <a:ext cx="4543560" cy="1247760"/>
          </a:xfrm>
          <a:custGeom>
            <a:avLst/>
            <a:gdLst>
              <a:gd name="textAreaLeft" fmla="*/ 0 w 4543560"/>
              <a:gd name="textAreaRight" fmla="*/ 4543920 w 454356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abe3c7"/>
          </a:solidFill>
          <a:ln w="9360">
            <a:solidFill>
              <a:srgbClr val="abe3c7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51040" indent="-277920" algn="ctr">
              <a:lnSpc>
                <a:spcPct val="100000"/>
              </a:lnSpc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199680" y="3628440"/>
            <a:ext cx="4543560" cy="1323720"/>
          </a:xfrm>
          <a:custGeom>
            <a:avLst/>
            <a:gdLst>
              <a:gd name="textAreaLeft" fmla="*/ -360 w 4543560"/>
              <a:gd name="textAreaRight" fmla="*/ 4543560 w 4543560"/>
              <a:gd name="textAreaTop" fmla="*/ -360 h 1323720"/>
              <a:gd name="textAreaBottom" fmla="*/ 1323720 h 1323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abe3c7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78360" y="2239920"/>
            <a:ext cx="3108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Manufactured goo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3962520"/>
            <a:ext cx="14479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Raw materia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2971800"/>
            <a:ext cx="1371600" cy="865080"/>
          </a:xfrm>
          <a:prstGeom prst="ellipse">
            <a:avLst/>
          </a:prstGeom>
          <a:solidFill>
            <a:srgbClr val="ffdb9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Mother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Count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3276720"/>
            <a:ext cx="1371600" cy="865080"/>
          </a:xfrm>
          <a:prstGeom prst="ellipse">
            <a:avLst/>
          </a:prstGeom>
          <a:solidFill>
            <a:srgbClr val="ffdb9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Colon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4572000"/>
            <a:ext cx="2895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Cheap lab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AuntJudy"/>
              </a:rPr>
              <a:t>Characteristics of Mercantilism</a:t>
            </a:r>
            <a:endParaRPr b="0" lang="en-US" sz="36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08080"/>
              </a:buClr>
              <a:buSzPct val="85000"/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arge population was needed to provide a domestic labor force to people the coloni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808080"/>
              </a:buClr>
              <a:buSzPct val="85000"/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xury items should be avoi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93760" indent="-341280">
              <a:spcBef>
                <a:spcPts val="6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y took money out of the economy unnecessarily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808080"/>
              </a:buClr>
              <a:buSzPct val="85000"/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e action was needed to regulate and enforce all of these economic polici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93760" indent="-341280">
              <a:spcBef>
                <a:spcPts val="6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tate-sponsored trade monopolies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Jean Baptiste Colbert </a:t>
            </a:r>
            <a:r>
              <a:rPr b="0" lang="en-US" sz="3800" spc="-1" strike="noStrike">
                <a:solidFill>
                  <a:srgbClr val="996600"/>
                </a:solidFill>
                <a:latin typeface="Bradley Gratis"/>
              </a:rPr>
              <a:t>[(1619-1683)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2880" y="1449360"/>
            <a:ext cx="419112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rchitect of French mercantilism or “Colbertism.”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e was a bullionis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re are four professions of importance to the nation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279360">
              <a:lnSpc>
                <a:spcPct val="90000"/>
              </a:lnSpc>
              <a:spcBef>
                <a:spcPts val="476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Agriculture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279360">
              <a:lnSpc>
                <a:spcPct val="90000"/>
              </a:lnSpc>
              <a:spcBef>
                <a:spcPts val="476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Trade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279360">
              <a:lnSpc>
                <a:spcPct val="90000"/>
              </a:lnSpc>
              <a:spcBef>
                <a:spcPts val="476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Army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279360">
              <a:lnSpc>
                <a:spcPct val="90000"/>
              </a:lnSpc>
              <a:spcBef>
                <a:spcPts val="476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Navy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iform weights &amp; measure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pposed tolls on internal trad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2083" b="0"/>
          <a:stretch/>
        </p:blipFill>
        <p:spPr>
          <a:xfrm>
            <a:off x="1600200" y="1677960"/>
            <a:ext cx="3352680" cy="3884760"/>
          </a:xfrm>
          <a:prstGeom prst="rect">
            <a:avLst/>
          </a:prstGeom>
          <a:ln w="9360">
            <a:solidFill>
              <a:srgbClr val="ac7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Jean Baptiste Colbert </a:t>
            </a:r>
            <a:r>
              <a:rPr b="0" lang="en-US" sz="3800" spc="-1" strike="noStrike">
                <a:solidFill>
                  <a:srgbClr val="996600"/>
                </a:solidFill>
                <a:latin typeface="Bradley Gratis"/>
              </a:rPr>
              <a:t>[(1619-1683)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76160" y="152352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upported mandatory labor on national roads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75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Favored a large population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334800"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ather of 10 or more children would be exempt from taxes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75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Favored low wages and child labor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8120" y="3672000"/>
            <a:ext cx="4495680" cy="2584440"/>
          </a:xfrm>
          <a:prstGeom prst="rect">
            <a:avLst/>
          </a:prstGeom>
          <a:ln w="9360">
            <a:solidFill>
              <a:srgbClr val="ac73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3048120" y="63388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lbert &amp; Louis X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61976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Who Benefited Most From Mercantilism?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95480" y="2133720"/>
            <a:ext cx="5562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3200" indent="-403200">
              <a:spcBef>
                <a:spcPts val="799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arch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799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rchant capitalist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799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int-stock compani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799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vernment officia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2:32:30Z</dcterms:created>
  <dc:creator>Ms. Susan M. Pojer</dc:creator>
  <dc:description/>
  <dc:language>en-US</dc:language>
  <cp:lastModifiedBy>Susan Gregory</cp:lastModifiedBy>
  <dcterms:modified xsi:type="dcterms:W3CDTF">2007-02-23T06:58:10Z</dcterms:modified>
  <cp:revision>62</cp:revision>
  <dc:subject/>
  <dc:title>From Mercantilism to Adam Smith:  The Evolution of the Modern Capitalist System</dc:title>
</cp:coreProperties>
</file>